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AD76-B9DF-4496-9AD1-46BB80A4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589-8BD7-4845-B14A-85DA1680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494-9720-4DC3-AB98-2D98D0C6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0E9-D23B-4637-B066-6FD1D441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7F35-11A9-42DE-BEC4-C362F0AB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C48F-27F1-4291-8CF1-4C541937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7434-F9F0-4B7B-90EF-49C076DA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0442-8763-4874-9F64-4DCB1C53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F80E-D788-4013-98BD-5D8188D4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671C-2363-46A5-A3BC-84FEC9E6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14EB-5443-4B1B-9E0F-E84CF086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2B4-4298-4FC0-A638-87AB9DAC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C7C2-E15D-46DF-8E23-7B08F251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D457-649A-400D-A918-D307F4D3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752E-B2AC-4C34-B983-CF7F3A25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8E0D-D8BA-49BA-8488-9E4D8442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0565-2A9D-43CE-A252-53C3E10B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AC5-61AF-4DF8-8B1D-6ED6E707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CD3B-9A51-491F-AFAF-D0F48F47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723-8352-4B45-8792-487FC521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C96-419E-43EF-9ED5-902C9DD5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738-672F-4C9C-A450-AFDEF92D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6AE-11C9-4513-A670-B3B71059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DED-37F8-4030-A578-109CA089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4CF1-5AE4-4AA5-AB93-3E8622EC0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8475-8FE9-48F3-9585-E8738278D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1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1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utbol catologo 2012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Greg and Daksh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019920" y="3124080"/>
            <a:ext cx="28191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jamas de futbol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ijamas de futbol. Es colores en azul, blanco y negro. Cuasta 20 pe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1638360" cy="2895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886200" y="3581280"/>
            <a:ext cx="1332000" cy="2229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5257800" y="3429000"/>
            <a:ext cx="3124080" cy="2550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1981080" y="3505320"/>
            <a:ext cx="1917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cartera y sandalia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carteras de futbol. Son de arsenal y FCB .multiple sandalias de futbol. Son de adi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296040" y="3657600"/>
            <a:ext cx="2847960" cy="2065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114800" y="3657600"/>
            <a:ext cx="22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tones y reloj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reloj son de MLS. Uno mitones de futbol. Son de N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286000" y="3352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4572000" y="3352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6781680" y="3352680"/>
            <a:ext cx="2133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Biletes locales de ML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quetes de jue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gland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game                2 games         3 games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 pesos             60 pesos         100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00400" y="4419720"/>
            <a:ext cx="2847960" cy="1609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55308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791320" y="228600"/>
            <a:ext cx="2095560" cy="11732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7467480" y="1600200"/>
            <a:ext cx="1220760" cy="1628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838080" y="1523880"/>
            <a:ext cx="12067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na zapato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o messi lleva azul Adidas tacos de futbol. Los tacos cuatsta 160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18320" y="5562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828800" cy="1476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365760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400800" y="3276720"/>
            <a:ext cx="2209680" cy="2666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33520" y="2895480"/>
            <a:ext cx="1361880" cy="1381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miseta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camisetas de futbol. Son de Chivas USA, New england Revolution y FCB. Cuasta 50 pe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276200" cy="1343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5105520"/>
            <a:ext cx="1695600" cy="1009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133720" y="5105520"/>
            <a:ext cx="2124000" cy="99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858000" y="4724280"/>
            <a:ext cx="1790640" cy="1381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572000" y="4267080"/>
            <a:ext cx="2247840" cy="1791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80880" y="388620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2057400" y="3886200"/>
            <a:ext cx="2286000" cy="1247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lcetine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iple calcentines de futbol. Son de LA Galaxy (David Beckham). Colores en verde y blanco. Cuasta 30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133720" cy="2438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133720" y="3657600"/>
            <a:ext cx="1676160" cy="2438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715000" y="3733920"/>
            <a:ext cx="3009960" cy="243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ntalones corte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 panatlones cortes de futbol. Son de BPL. Cuasta 45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4038480" cy="2747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95880" y="3581280"/>
            <a:ext cx="2772000" cy="212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419720" y="3581280"/>
            <a:ext cx="16761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lon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balons de futbol. Son de MLS y BPL. cuatsa 20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943600" y="3733920"/>
            <a:ext cx="2533680" cy="1809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410080" y="304920"/>
            <a:ext cx="1562400" cy="1352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971800" y="3657600"/>
            <a:ext cx="1514520" cy="2019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419720" y="3809880"/>
            <a:ext cx="1628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rras de M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gorras de MLS, San Jose, Chicago y Seatle. Cuasta 15 pe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562720" y="2819520"/>
            <a:ext cx="3314520" cy="2771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743200" y="3886200"/>
            <a:ext cx="28195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eter y guantes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de MLS, Brazil y FCB. Cuasta 65 pe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1749600" cy="2332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971800" y="3200400"/>
            <a:ext cx="228456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010280" y="3505320"/>
            <a:ext cx="2019600" cy="2695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28600" y="3809880"/>
            <a:ext cx="2743200" cy="180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fanda de futb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de MLS, multiple bufandas. 35 pe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4876920" cy="3711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9920" y="609480"/>
            <a:ext cx="2933640" cy="868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5049720"/>
            <a:ext cx="4191120" cy="960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838080" y="29718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8:00:46Z</dcterms:created>
  <dc:creator>fawkesgre</dc:creator>
  <dc:description/>
  <dc:language>en-US</dc:language>
  <cp:lastModifiedBy>fawkesgre</cp:lastModifiedBy>
  <dcterms:modified xsi:type="dcterms:W3CDTF">2013-01-04T18:01:27Z</dcterms:modified>
  <cp:revision>13</cp:revision>
  <dc:subject/>
  <dc:title>Slide 1</dc:title>
</cp:coreProperties>
</file>